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BCE94-1068-4FF7-BB2B-C046C0A1D6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6BF8C-A560-4EB7-AC5C-409DC0EB4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E0D2D-DF5A-4D01-99AE-673FED1E6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1F7EB-D241-4C2F-9697-504482E27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A67A4-D72C-49B5-B2EA-1A2060C054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8DF57-76F6-41F6-81FA-2811BFA25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CA6E6-8773-476A-8604-1F78988489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7591ACE1-0814-4E41-B8A5-B542E9E09C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443BEB1-2B14-466E-82A5-06D0C029C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4573E-B2C8-458A-AB11-774EF5660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C87B2-CAFC-4382-86C7-9FCDF1A70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3C1F8-6653-4394-A7CF-69D34008DC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22DA-1F41-4DB9-A627-B3744BFB51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788E-87F0-42D0-BFF3-EF5A41F9A6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elcome 9:53!!!</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7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of the feedback you could provide the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 student has solved the problem, think of a challenge problem that you could provide the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 student seems to be struggling, think of a scaffold question for the student.</a:t>
            </a: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253E-E1A2-412C-B44B-8CB5D99ABB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ass it on…</a:t>
            </a:r>
            <a:endParaRPr b="0" lang="en-US" sz="4400" spc="-1" strike="noStrike">
              <a:solidFill>
                <a:srgbClr val="2b5ca9"/>
              </a:solidFill>
              <a:latin typeface="Arial"/>
            </a:endParaRPr>
          </a:p>
        </p:txBody>
      </p:sp>
      <p:graphicFrame>
        <p:nvGraphicFramePr>
          <p:cNvPr id="81" name=""/>
          <p:cNvGraphicFramePr/>
          <p:nvPr/>
        </p:nvGraphicFramePr>
        <p:xfrm>
          <a:off x="457200" y="1752480"/>
          <a:ext cx="8229600" cy="2468520"/>
        </p:xfrm>
        <a:graphic>
          <a:graphicData uri="http://schemas.openxmlformats.org/drawingml/2006/table">
            <a:tbl>
              <a:tblPr/>
              <a:tblGrid>
                <a:gridCol w="4114800"/>
                <a:gridCol w="41148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Challenge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olution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82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D9B5-070F-4C1E-AD3F-AA66F6BB85E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allery Walk</a:t>
            </a:r>
            <a:endParaRPr b="0" lang="en-US" sz="4400" spc="-1" strike="noStrike">
              <a:solidFill>
                <a:srgbClr val="2b5ca9"/>
              </a:solidFill>
              <a:latin typeface="Arial"/>
            </a:endParaRPr>
          </a:p>
        </p:txBody>
      </p:sp>
      <p:sp>
        <p:nvSpPr>
          <p:cNvPr id="8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lk a walk and look at the collected work from all of the groups.</a:t>
            </a: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5447-EB8F-4ED8-8D10-16C44B3FCBE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 Journal</a:t>
            </a:r>
            <a:endParaRPr b="0" lang="en-US" sz="4400" spc="-1" strike="noStrike">
              <a:solidFill>
                <a:srgbClr val="2b5ca9"/>
              </a:solidFill>
              <a:latin typeface="Arial"/>
            </a:endParaRPr>
          </a:p>
        </p:txBody>
      </p:sp>
      <p:sp>
        <p:nvSpPr>
          <p:cNvPr id="87" name=""/>
          <p:cNvSpPr txBox="1"/>
          <p:nvPr/>
        </p:nvSpPr>
        <p:spPr>
          <a:xfrm>
            <a:off x="609120" y="1599840"/>
            <a:ext cx="5257800" cy="3429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tegies do you use in your classroom to help students with patterning and algebra?</a:t>
            </a:r>
            <a:endParaRPr b="0" lang="en-US" sz="32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7238-D85B-4620-B02F-004ADF34014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2" descr="http://freetechjournal.com/blog/wp-content/uploads/2010/12/press-journal.gif"/>
          <p:cNvPicPr/>
          <p:nvPr/>
        </p:nvPicPr>
        <p:blipFill>
          <a:blip r:embed="rId1"/>
          <a:stretch/>
        </p:blipFill>
        <p:spPr>
          <a:xfrm>
            <a:off x="6019920" y="1600200"/>
            <a:ext cx="2514600" cy="300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ind Your Pattern Pardner</a:t>
            </a: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other representations of your linear relation.</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02DA-95B5-4566-B807-5A249E5FD2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629F-3850-488A-A4A5-D037A74BE5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ntroduce your partner</a:t>
            </a:r>
            <a:endParaRPr b="0" lang="en-US" sz="4400" spc="-1" strike="noStrike">
              <a:solidFill>
                <a:srgbClr val="2b5ca9"/>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elbow partner. We would like to know:</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nam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y come from</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ro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hope to get from this week</a:t>
            </a:r>
            <a:endParaRPr b="0" lang="en-US" sz="28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EDF9-A3ED-4383-BF02-8B78958485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reakout Goals</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the big ideas in Algebraic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how we can support students by providing feedback in the moment that supports their lear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729D-5B72-4CD1-A59A-17B30F6B2C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Resource Corral</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re is something this week you would like to share with the rest of the group, note the name, and particulars (e.g. author, web address, etc) and reason in the resource corral.</a:t>
            </a: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2EF8-2837-440B-8764-5168543A8B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ur Camp Bandana</a:t>
            </a:r>
            <a:endParaRPr b="0" lang="en-US" sz="4400" spc="-1" strike="noStrike">
              <a:solidFill>
                <a:srgbClr val="2b5ca9"/>
              </a:solidFill>
              <a:latin typeface="Arial"/>
            </a:endParaRPr>
          </a:p>
        </p:txBody>
      </p:sp>
      <p:sp>
        <p:nvSpPr>
          <p:cNvPr id="6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we progress through the week, note instructional strategies, big ideas, things that stick with you on your bandana.</a:t>
            </a:r>
            <a:endParaRPr b="0" lang="en-US" sz="32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651F-7E05-4E06-B919-F91A41E854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task for you</a:t>
            </a:r>
            <a:endParaRPr b="0" lang="en-US" sz="4400" spc="-1" strike="noStrike">
              <a:solidFill>
                <a:srgbClr val="2b5ca9"/>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381C-E8B9-4470-80A9-8289A712D5B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9" name="" descr=""/>
          <p:cNvPicPr/>
          <p:nvPr/>
        </p:nvPicPr>
        <p:blipFill>
          <a:blip r:embed="rId1"/>
          <a:stretch/>
        </p:blipFill>
        <p:spPr>
          <a:xfrm>
            <a:off x="457200" y="1599840"/>
            <a:ext cx="8229600" cy="5257800"/>
          </a:xfrm>
          <a:prstGeom prst="rect">
            <a:avLst/>
          </a:prstGeom>
          <a:ln w="0">
            <a:noFill/>
          </a:ln>
        </p:spPr>
      </p:pic>
      <p:pic>
        <p:nvPicPr>
          <p:cNvPr id="70" name="Picture 5" descr=""/>
          <p:cNvPicPr/>
          <p:nvPr/>
        </p:nvPicPr>
        <p:blipFill>
          <a:blip r:embed="rId2"/>
          <a:stretch/>
        </p:blipFill>
        <p:spPr>
          <a:xfrm>
            <a:off x="2286000" y="1600200"/>
            <a:ext cx="6381720" cy="4514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allery Walk</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lk a walk and look at the solutions from the other group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EC99-14AF-4592-8EC6-B26DD0308A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ypes of responses do you anticipate?</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F464-1131-498F-902A-16F5B9F464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Paul Alves</cp:lastModifiedBy>
  <dcterms:modified xsi:type="dcterms:W3CDTF">2011-08-12T03:47:37Z</dcterms:modified>
  <cp:revision>15</cp:revision>
  <dc:subject/>
  <dc:title>&lt;Title&gt;</dc:title>
</cp:coreProperties>
</file>